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5804280"/>
            <a:ext cx="5460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712320" y="5804280"/>
            <a:ext cx="26647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7604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07280" y="281916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7604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4607280" y="5804280"/>
            <a:ext cx="1758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5016600"/>
            <a:ext cx="11175840" cy="12700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7696080"/>
            <a:ext cx="11175840" cy="13082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7280" y="2057400"/>
            <a:ext cx="5854680" cy="2857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47280" y="5067000"/>
            <a:ext cx="5854680" cy="26924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8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1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5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6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1000"/>
          </a:bodyPr>
          <a:p>
            <a:pPr marL="77688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30860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4032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7204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1219320"/>
            <a:ext cx="11175840" cy="73152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9000"/>
          </a:bodyPr>
          <a:p>
            <a:pPr marL="75996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2798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000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1984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91000"/>
          </a:bodyPr>
          <a:p>
            <a:pPr marL="74088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2726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80432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33604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2400" y="2819160"/>
            <a:ext cx="4317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5000"/>
          </a:bodyPr>
          <a:p>
            <a:pPr marL="5292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9090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2888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16686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1st stage of sleep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5016600"/>
            <a:ext cx="11175840" cy="12700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Jina Lee, Clair Kang, Youjin Kwon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0066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haracteristics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120" y="2031480"/>
            <a:ext cx="11392200" cy="69217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9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Monaco"/>
              </a:rPr>
              <a:t>transition state between sleep and wakefulness</a:t>
            </a:r>
            <a:endParaRPr b="0" lang="en-US" sz="29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Monaco"/>
              </a:rPr>
              <a:t>eyes begin to roll slightly</a:t>
            </a:r>
            <a:endParaRPr b="0" lang="en-US" sz="29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9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Monaco"/>
              </a:rPr>
              <a:t>consists mostly of theta waves (high amplitude, low frequency (slow))</a:t>
            </a:r>
            <a:endParaRPr b="0" lang="en-US" sz="29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9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Monaco"/>
              </a:rPr>
              <a:t>brief periods of alpha waves, similar to those present while awake</a:t>
            </a:r>
            <a:endParaRPr b="0" lang="en-US" sz="29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9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Monaco"/>
              </a:rPr>
              <a:t>lasts only for a few minutes before moving on to next stage</a:t>
            </a:r>
            <a:endParaRPr b="0" lang="en-US" sz="29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53720" y="1117440"/>
            <a:ext cx="1117620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Brain Waves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5360" y="262872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requency: 4 to 8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high frequency = high brain activity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ype: alpha, theta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0"/>
            <a:ext cx="4572000" cy="6261120"/>
            <a:chOff x="0" y="0"/>
            <a:chExt cx="4572000" cy="6261120"/>
          </a:xfrm>
        </p:grpSpPr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 rot="21487200">
              <a:off x="280800" y="593640"/>
              <a:ext cx="4012920" cy="54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572000" cy="626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68120" y="-241560"/>
            <a:ext cx="11176200" cy="25398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HYPNAGOGIC SLEEP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23600" y="1714320"/>
            <a:ext cx="6210360" cy="71118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65080" indent="-484200">
              <a:lnSpc>
                <a:spcPct val="100000"/>
              </a:lnSpc>
              <a:spcBef>
                <a:spcPts val="3600"/>
              </a:spcBef>
              <a:buSzPct val="1430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</a:rPr>
              <a:t>neither dreaming or daydreaming</a:t>
            </a:r>
            <a:endParaRPr b="0" lang="en-US" sz="2800" spc="-1" strike="noStrike">
              <a:solidFill>
                <a:srgbClr val="ffffff"/>
              </a:solidFill>
              <a:latin typeface="Monaco"/>
            </a:endParaRPr>
          </a:p>
          <a:p>
            <a:pPr marL="865080" indent="-484200">
              <a:lnSpc>
                <a:spcPct val="100000"/>
              </a:lnSpc>
              <a:spcBef>
                <a:spcPts val="3600"/>
              </a:spcBef>
              <a:buSzPct val="1430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</a:rPr>
              <a:t>body movements are involuntary</a:t>
            </a:r>
            <a:endParaRPr b="0" lang="en-US" sz="2800" spc="-1" strike="noStrike">
              <a:solidFill>
                <a:srgbClr val="ffffff"/>
              </a:solidFill>
              <a:latin typeface="Monaco"/>
            </a:endParaRPr>
          </a:p>
          <a:p>
            <a:pPr marL="865080" indent="-484200">
              <a:lnSpc>
                <a:spcPct val="100000"/>
              </a:lnSpc>
              <a:spcBef>
                <a:spcPts val="3600"/>
              </a:spcBef>
              <a:buSzPct val="14301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</a:rPr>
              <a:t>stimuli do not affect you as it would when you're awake. feel like falling off a cliff and experience such as sudden jerks (myclonia)</a:t>
            </a:r>
            <a:endParaRPr b="0" lang="en-US" sz="2600" spc="-1" strike="noStrike">
              <a:solidFill>
                <a:srgbClr val="ffffff"/>
              </a:solidFill>
              <a:latin typeface="Monaco"/>
            </a:endParaRPr>
          </a:p>
          <a:p>
            <a:pPr marL="865080" indent="-484200">
              <a:lnSpc>
                <a:spcPct val="100000"/>
              </a:lnSpc>
              <a:spcBef>
                <a:spcPts val="3600"/>
              </a:spcBef>
              <a:buSzPct val="14301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</a:rPr>
              <a:t>hypnagogic hallucinations</a:t>
            </a:r>
            <a:endParaRPr b="0" lang="en-US" sz="2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